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BA6-8098-43A5-B501-0133CD01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F95-17A0-43E1-91A1-F343361C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8B9-CC24-4985-AD5F-05D7FB59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C72-473B-4CF9-926D-F10DD671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6F26-CDD3-4F8B-A3AA-8CFE10BC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7F59-C136-43B9-9F67-4F8D85B0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FA5D-1B8C-45A2-9669-3AC23C6F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AD8E-2FE0-471D-BE0A-F28C1C85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2904-45C9-41A5-B2F8-190C52C8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21D8-5090-4E1E-A2E1-C37E0397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C0E1-A5D2-4F46-B1EC-40BE8647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8AC-129B-4F27-A934-D42F73DD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F6BA-57E3-43FF-BD74-46A73B34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90D9-0783-4EC0-B58D-A6A202E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B53E-5A35-47C7-A6A8-A61FFD30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2234-D7CF-4514-830C-E5F017E6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A7CF-C64C-4AEA-BEA1-8048B966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9CF-87FD-4E6D-B9B1-0FFCEAA6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76E-B9F4-41CA-8903-E87D1374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6CD-18DD-4A3C-AA55-5D6F016B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7E7-500F-473C-A754-4EE2F877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5D1-39D6-46DD-ABF0-FF19F993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13E-ABD9-4AB4-983E-511CB2E9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11C-B11B-4F3D-9777-E6DA4062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3998-2C0E-4F2B-AE35-73F0F2CCC97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04C6-3730-4991-9F82-20B48D1110E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20720" y="1871280"/>
            <a:ext cx="770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NZ" sz="4400" spc="-1" strike="noStrike">
                <a:solidFill>
                  <a:srgbClr val="ffffff"/>
                </a:solidFill>
                <a:latin typeface="Curlz MT"/>
              </a:rPr>
              <a:t>Police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i.  I am going to tell some info about the pol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013360"/>
            <a:ext cx="2411280" cy="17017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486160" cy="1838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1280" y="3213000"/>
            <a:ext cx="7954920" cy="1527120"/>
          </a:xfrm>
          <a:custGeom>
            <a:avLst/>
            <a:gdLst/>
            <a:ahLst/>
            <a:rect l="l" t="t" r="r" b="b"/>
            <a:pathLst>
              <a:path w="16273" h="3126">
                <a:moveTo>
                  <a:pt x="4911" y="9897"/>
                </a:moveTo>
                <a:cubicBezTo>
                  <a:pt x="4903" y="10078"/>
                  <a:pt x="4900" y="10247"/>
                  <a:pt x="4887" y="10418"/>
                </a:cubicBezTo>
                <a:cubicBezTo>
                  <a:pt x="4884" y="10457"/>
                  <a:pt x="4864" y="10473"/>
                  <a:pt x="4862" y="10517"/>
                </a:cubicBezTo>
                <a:cubicBezTo>
                  <a:pt x="4855" y="10650"/>
                  <a:pt x="4832" y="10860"/>
                  <a:pt x="4911" y="10939"/>
                </a:cubicBezTo>
                <a:cubicBezTo>
                  <a:pt x="4921" y="10949"/>
                  <a:pt x="4995" y="10954"/>
                  <a:pt x="5011" y="10964"/>
                </a:cubicBezTo>
                <a:cubicBezTo>
                  <a:pt x="5043" y="10983"/>
                  <a:pt x="5041" y="10974"/>
                  <a:pt x="5085" y="10988"/>
                </a:cubicBezTo>
                <a:cubicBezTo>
                  <a:pt x="5157" y="11011"/>
                  <a:pt x="5230" y="11004"/>
                  <a:pt x="5308" y="11013"/>
                </a:cubicBezTo>
                <a:cubicBezTo>
                  <a:pt x="6043" y="11101"/>
                  <a:pt x="6815" y="11021"/>
                  <a:pt x="7516" y="11112"/>
                </a:cubicBezTo>
                <a:cubicBezTo>
                  <a:pt x="7638" y="11128"/>
                  <a:pt x="7756" y="11119"/>
                  <a:pt x="7863" y="11162"/>
                </a:cubicBezTo>
                <a:cubicBezTo>
                  <a:pt x="7910" y="11181"/>
                  <a:pt x="7941" y="11216"/>
                  <a:pt x="7987" y="11237"/>
                </a:cubicBezTo>
                <a:cubicBezTo>
                  <a:pt x="8035" y="11260"/>
                  <a:pt x="8151" y="11321"/>
                  <a:pt x="8186" y="11361"/>
                </a:cubicBezTo>
                <a:cubicBezTo>
                  <a:pt x="8221" y="11401"/>
                  <a:pt x="8233" y="11385"/>
                  <a:pt x="8260" y="11435"/>
                </a:cubicBezTo>
                <a:cubicBezTo>
                  <a:pt x="8278" y="11468"/>
                  <a:pt x="8269" y="11484"/>
                  <a:pt x="8285" y="11534"/>
                </a:cubicBezTo>
                <a:cubicBezTo>
                  <a:pt x="8377" y="11830"/>
                  <a:pt x="8232" y="12069"/>
                  <a:pt x="8458" y="12278"/>
                </a:cubicBezTo>
                <a:cubicBezTo>
                  <a:pt x="8481" y="12299"/>
                  <a:pt x="8505" y="12309"/>
                  <a:pt x="8533" y="12328"/>
                </a:cubicBezTo>
                <a:cubicBezTo>
                  <a:pt x="8560" y="12346"/>
                  <a:pt x="8605" y="12339"/>
                  <a:pt x="8632" y="12353"/>
                </a:cubicBezTo>
                <a:cubicBezTo>
                  <a:pt x="8649" y="12362"/>
                  <a:pt x="8694" y="12387"/>
                  <a:pt x="8731" y="12402"/>
                </a:cubicBezTo>
                <a:cubicBezTo>
                  <a:pt x="8792" y="12427"/>
                  <a:pt x="8826" y="12441"/>
                  <a:pt x="8880" y="12452"/>
                </a:cubicBezTo>
                <a:cubicBezTo>
                  <a:pt x="8951" y="12466"/>
                  <a:pt x="9005" y="12470"/>
                  <a:pt x="9079" y="12477"/>
                </a:cubicBezTo>
                <a:cubicBezTo>
                  <a:pt x="9572" y="12525"/>
                  <a:pt x="10082" y="12541"/>
                  <a:pt x="10567" y="12576"/>
                </a:cubicBezTo>
                <a:cubicBezTo>
                  <a:pt x="10750" y="12589"/>
                  <a:pt x="10906" y="12563"/>
                  <a:pt x="11063" y="12551"/>
                </a:cubicBezTo>
                <a:cubicBezTo>
                  <a:pt x="11206" y="12540"/>
                  <a:pt x="11356" y="12516"/>
                  <a:pt x="11485" y="12502"/>
                </a:cubicBezTo>
                <a:cubicBezTo>
                  <a:pt x="11680" y="12481"/>
                  <a:pt x="11891" y="12497"/>
                  <a:pt x="12080" y="12452"/>
                </a:cubicBezTo>
                <a:cubicBezTo>
                  <a:pt x="12094" y="12449"/>
                  <a:pt x="12167" y="12392"/>
                  <a:pt x="12229" y="12378"/>
                </a:cubicBezTo>
                <a:cubicBezTo>
                  <a:pt x="12237" y="12378"/>
                  <a:pt x="12246" y="12378"/>
                  <a:pt x="12254" y="12378"/>
                </a:cubicBezTo>
                <a:cubicBezTo>
                  <a:pt x="12269" y="12375"/>
                  <a:pt x="12241" y="12307"/>
                  <a:pt x="12328" y="12303"/>
                </a:cubicBezTo>
                <a:cubicBezTo>
                  <a:pt x="12595" y="12291"/>
                  <a:pt x="12863" y="12309"/>
                  <a:pt x="13097" y="12328"/>
                </a:cubicBezTo>
                <a:cubicBezTo>
                  <a:pt x="13104" y="12329"/>
                  <a:pt x="13202" y="12351"/>
                  <a:pt x="13246" y="12353"/>
                </a:cubicBezTo>
                <a:cubicBezTo>
                  <a:pt x="13482" y="12362"/>
                  <a:pt x="13738" y="12373"/>
                  <a:pt x="13965" y="12378"/>
                </a:cubicBezTo>
                <a:cubicBezTo>
                  <a:pt x="14218" y="12384"/>
                  <a:pt x="14498" y="12387"/>
                  <a:pt x="14734" y="12402"/>
                </a:cubicBezTo>
                <a:cubicBezTo>
                  <a:pt x="14795" y="12406"/>
                  <a:pt x="14818" y="12423"/>
                  <a:pt x="14883" y="12427"/>
                </a:cubicBezTo>
                <a:cubicBezTo>
                  <a:pt x="15178" y="12443"/>
                  <a:pt x="15422" y="12384"/>
                  <a:pt x="15701" y="12353"/>
                </a:cubicBezTo>
                <a:cubicBezTo>
                  <a:pt x="16056" y="12314"/>
                  <a:pt x="16416" y="12345"/>
                  <a:pt x="16743" y="12254"/>
                </a:cubicBezTo>
                <a:cubicBezTo>
                  <a:pt x="16878" y="12216"/>
                  <a:pt x="17115" y="12164"/>
                  <a:pt x="17214" y="12055"/>
                </a:cubicBezTo>
                <a:cubicBezTo>
                  <a:pt x="17231" y="12036"/>
                  <a:pt x="17245" y="12016"/>
                  <a:pt x="17264" y="11981"/>
                </a:cubicBezTo>
                <a:cubicBezTo>
                  <a:pt x="17292" y="11930"/>
                  <a:pt x="17270" y="11889"/>
                  <a:pt x="17289" y="11832"/>
                </a:cubicBezTo>
                <a:cubicBezTo>
                  <a:pt x="17317" y="11745"/>
                  <a:pt x="17286" y="11644"/>
                  <a:pt x="17314" y="11559"/>
                </a:cubicBezTo>
                <a:cubicBezTo>
                  <a:pt x="17357" y="11430"/>
                  <a:pt x="17269" y="11416"/>
                  <a:pt x="17388" y="11336"/>
                </a:cubicBezTo>
                <a:cubicBezTo>
                  <a:pt x="17461" y="11287"/>
                  <a:pt x="17549" y="11324"/>
                  <a:pt x="17636" y="11311"/>
                </a:cubicBezTo>
                <a:cubicBezTo>
                  <a:pt x="18070" y="11248"/>
                  <a:pt x="18528" y="11191"/>
                  <a:pt x="18951" y="11137"/>
                </a:cubicBezTo>
                <a:cubicBezTo>
                  <a:pt x="19362" y="11085"/>
                  <a:pt x="19826" y="11224"/>
                  <a:pt x="20191" y="11063"/>
                </a:cubicBezTo>
                <a:cubicBezTo>
                  <a:pt x="20386" y="10977"/>
                  <a:pt x="20936" y="10631"/>
                  <a:pt x="21034" y="10468"/>
                </a:cubicBezTo>
                <a:cubicBezTo>
                  <a:pt x="21088" y="10379"/>
                  <a:pt x="21090" y="10168"/>
                  <a:pt x="21109" y="10071"/>
                </a:cubicBezTo>
                <a:cubicBezTo>
                  <a:pt x="21140" y="9917"/>
                  <a:pt x="21156" y="9846"/>
                  <a:pt x="21084" y="9748"/>
                </a:cubicBezTo>
                <a:cubicBezTo>
                  <a:pt x="21039" y="9687"/>
                  <a:pt x="20879" y="9649"/>
                  <a:pt x="20811" y="9624"/>
                </a:cubicBezTo>
                <a:cubicBezTo>
                  <a:pt x="20585" y="9542"/>
                  <a:pt x="20234" y="9510"/>
                  <a:pt x="19993" y="9475"/>
                </a:cubicBezTo>
                <a:cubicBezTo>
                  <a:pt x="19865" y="9456"/>
                  <a:pt x="19723" y="9457"/>
                  <a:pt x="19596" y="9451"/>
                </a:cubicBezTo>
                <a:cubicBezTo>
                  <a:pt x="19212" y="9434"/>
                  <a:pt x="18851" y="9487"/>
                  <a:pt x="18479" y="9500"/>
                </a:cubicBezTo>
                <a:cubicBezTo>
                  <a:pt x="18149" y="9511"/>
                  <a:pt x="17821" y="9491"/>
                  <a:pt x="17512" y="9550"/>
                </a:cubicBezTo>
                <a:cubicBezTo>
                  <a:pt x="17415" y="9569"/>
                  <a:pt x="17330" y="9603"/>
                  <a:pt x="17239" y="9624"/>
                </a:cubicBezTo>
                <a:cubicBezTo>
                  <a:pt x="16753" y="9737"/>
                  <a:pt x="16208" y="9711"/>
                  <a:pt x="15701" y="9674"/>
                </a:cubicBezTo>
                <a:cubicBezTo>
                  <a:pt x="15613" y="9668"/>
                  <a:pt x="15517" y="9665"/>
                  <a:pt x="15429" y="9649"/>
                </a:cubicBezTo>
                <a:cubicBezTo>
                  <a:pt x="15386" y="9641"/>
                  <a:pt x="15353" y="9631"/>
                  <a:pt x="15304" y="9624"/>
                </a:cubicBezTo>
                <a:cubicBezTo>
                  <a:pt x="15238" y="9614"/>
                  <a:pt x="15177" y="9581"/>
                  <a:pt x="15106" y="9575"/>
                </a:cubicBezTo>
                <a:cubicBezTo>
                  <a:pt x="14818" y="9550"/>
                  <a:pt x="14526" y="9552"/>
                  <a:pt x="14238" y="9550"/>
                </a:cubicBezTo>
                <a:cubicBezTo>
                  <a:pt x="13918" y="9547"/>
                  <a:pt x="13609" y="9584"/>
                  <a:pt x="13295" y="9599"/>
                </a:cubicBezTo>
                <a:cubicBezTo>
                  <a:pt x="12890" y="9619"/>
                  <a:pt x="12483" y="9621"/>
                  <a:pt x="12080" y="9624"/>
                </a:cubicBezTo>
                <a:cubicBezTo>
                  <a:pt x="11163" y="9632"/>
                  <a:pt x="10201" y="9701"/>
                  <a:pt x="9302" y="9575"/>
                </a:cubicBezTo>
                <a:cubicBezTo>
                  <a:pt x="9241" y="9566"/>
                  <a:pt x="9187" y="9560"/>
                  <a:pt x="9128" y="9550"/>
                </a:cubicBezTo>
                <a:cubicBezTo>
                  <a:pt x="9021" y="9532"/>
                  <a:pt x="8914" y="9513"/>
                  <a:pt x="8806" y="9500"/>
                </a:cubicBezTo>
                <a:cubicBezTo>
                  <a:pt x="8368" y="9446"/>
                  <a:pt x="7908" y="9475"/>
                  <a:pt x="7466" y="9475"/>
                </a:cubicBezTo>
                <a:cubicBezTo>
                  <a:pt x="6930" y="9475"/>
                  <a:pt x="6354" y="9416"/>
                  <a:pt x="5829" y="9500"/>
                </a:cubicBezTo>
                <a:cubicBezTo>
                  <a:pt x="5721" y="9517"/>
                  <a:pt x="5672" y="9552"/>
                  <a:pt x="5581" y="9575"/>
                </a:cubicBezTo>
                <a:cubicBezTo>
                  <a:pt x="5528" y="9588"/>
                  <a:pt x="5530" y="9580"/>
                  <a:pt x="5482" y="9599"/>
                </a:cubicBezTo>
                <a:cubicBezTo>
                  <a:pt x="5432" y="9619"/>
                  <a:pt x="5359" y="9627"/>
                  <a:pt x="5308" y="9649"/>
                </a:cubicBezTo>
                <a:cubicBezTo>
                  <a:pt x="5293" y="9656"/>
                  <a:pt x="5199" y="9728"/>
                  <a:pt x="5159" y="9748"/>
                </a:cubicBezTo>
                <a:cubicBezTo>
                  <a:pt x="5079" y="9788"/>
                  <a:pt x="4963" y="9837"/>
                  <a:pt x="4911" y="9872"/>
                </a:cubicBezTo>
                <a:cubicBezTo>
                  <a:pt x="4907" y="9875"/>
                  <a:pt x="4891" y="9920"/>
                  <a:pt x="4887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56000" y="2349360"/>
            <a:ext cx="2808000" cy="714600"/>
          </a:xfrm>
          <a:custGeom>
            <a:avLst/>
            <a:gdLst/>
            <a:ahLst/>
            <a:rect l="l" t="t" r="r" b="b"/>
            <a:pathLst>
              <a:path w="11139" h="1986">
                <a:moveTo>
                  <a:pt x="7838" y="5680"/>
                </a:moveTo>
                <a:cubicBezTo>
                  <a:pt x="9039" y="5680"/>
                  <a:pt x="10430" y="5864"/>
                  <a:pt x="11609" y="5631"/>
                </a:cubicBezTo>
                <a:cubicBezTo>
                  <a:pt x="11713" y="5610"/>
                  <a:pt x="11801" y="5587"/>
                  <a:pt x="11906" y="5581"/>
                </a:cubicBezTo>
                <a:cubicBezTo>
                  <a:pt x="12384" y="5554"/>
                  <a:pt x="12965" y="5591"/>
                  <a:pt x="13395" y="5606"/>
                </a:cubicBezTo>
                <a:cubicBezTo>
                  <a:pt x="13563" y="5612"/>
                  <a:pt x="13724" y="5626"/>
                  <a:pt x="13891" y="5631"/>
                </a:cubicBezTo>
                <a:cubicBezTo>
                  <a:pt x="14038" y="5636"/>
                  <a:pt x="14205" y="5644"/>
                  <a:pt x="14337" y="5655"/>
                </a:cubicBezTo>
                <a:cubicBezTo>
                  <a:pt x="14422" y="5662"/>
                  <a:pt x="14500" y="5676"/>
                  <a:pt x="14585" y="5680"/>
                </a:cubicBezTo>
                <a:cubicBezTo>
                  <a:pt x="15054" y="5704"/>
                  <a:pt x="15545" y="5673"/>
                  <a:pt x="15999" y="5655"/>
                </a:cubicBezTo>
                <a:cubicBezTo>
                  <a:pt x="16189" y="5647"/>
                  <a:pt x="16383" y="5640"/>
                  <a:pt x="16570" y="5606"/>
                </a:cubicBezTo>
                <a:cubicBezTo>
                  <a:pt x="16813" y="5562"/>
                  <a:pt x="17023" y="5539"/>
                  <a:pt x="17264" y="5581"/>
                </a:cubicBezTo>
                <a:cubicBezTo>
                  <a:pt x="17358" y="5597"/>
                  <a:pt x="17426" y="5607"/>
                  <a:pt x="17512" y="5631"/>
                </a:cubicBezTo>
                <a:cubicBezTo>
                  <a:pt x="17568" y="5647"/>
                  <a:pt x="17609" y="5683"/>
                  <a:pt x="17661" y="5705"/>
                </a:cubicBezTo>
                <a:cubicBezTo>
                  <a:pt x="17702" y="5722"/>
                  <a:pt x="17738" y="5743"/>
                  <a:pt x="17760" y="5755"/>
                </a:cubicBezTo>
                <a:cubicBezTo>
                  <a:pt x="17799" y="5777"/>
                  <a:pt x="17821" y="5754"/>
                  <a:pt x="17859" y="5779"/>
                </a:cubicBezTo>
                <a:cubicBezTo>
                  <a:pt x="17898" y="5805"/>
                  <a:pt x="17938" y="5870"/>
                  <a:pt x="17983" y="5904"/>
                </a:cubicBezTo>
                <a:cubicBezTo>
                  <a:pt x="18017" y="5930"/>
                  <a:pt x="18076" y="5943"/>
                  <a:pt x="18107" y="5978"/>
                </a:cubicBezTo>
                <a:cubicBezTo>
                  <a:pt x="18139" y="6014"/>
                  <a:pt x="18180" y="6085"/>
                  <a:pt x="18207" y="6127"/>
                </a:cubicBezTo>
                <a:cubicBezTo>
                  <a:pt x="18233" y="6167"/>
                  <a:pt x="18264" y="6212"/>
                  <a:pt x="18281" y="6251"/>
                </a:cubicBezTo>
                <a:cubicBezTo>
                  <a:pt x="18305" y="6305"/>
                  <a:pt x="18319" y="6340"/>
                  <a:pt x="18331" y="6400"/>
                </a:cubicBezTo>
                <a:cubicBezTo>
                  <a:pt x="18367" y="6573"/>
                  <a:pt x="18323" y="6777"/>
                  <a:pt x="18281" y="6921"/>
                </a:cubicBezTo>
                <a:cubicBezTo>
                  <a:pt x="18257" y="7005"/>
                  <a:pt x="18223" y="7066"/>
                  <a:pt x="18182" y="7144"/>
                </a:cubicBezTo>
                <a:cubicBezTo>
                  <a:pt x="18157" y="7193"/>
                  <a:pt x="18120" y="7233"/>
                  <a:pt x="18083" y="7268"/>
                </a:cubicBezTo>
                <a:cubicBezTo>
                  <a:pt x="18051" y="7298"/>
                  <a:pt x="18078" y="7288"/>
                  <a:pt x="18033" y="7317"/>
                </a:cubicBezTo>
                <a:cubicBezTo>
                  <a:pt x="18005" y="7335"/>
                  <a:pt x="17993" y="7324"/>
                  <a:pt x="17959" y="7342"/>
                </a:cubicBezTo>
                <a:cubicBezTo>
                  <a:pt x="17895" y="7376"/>
                  <a:pt x="17854" y="7394"/>
                  <a:pt x="17785" y="7417"/>
                </a:cubicBezTo>
                <a:cubicBezTo>
                  <a:pt x="17710" y="7442"/>
                  <a:pt x="17661" y="7448"/>
                  <a:pt x="17587" y="7466"/>
                </a:cubicBezTo>
                <a:cubicBezTo>
                  <a:pt x="17489" y="7490"/>
                  <a:pt x="17392" y="7503"/>
                  <a:pt x="17289" y="7516"/>
                </a:cubicBezTo>
                <a:cubicBezTo>
                  <a:pt x="16356" y="7638"/>
                  <a:pt x="15320" y="7553"/>
                  <a:pt x="14387" y="7516"/>
                </a:cubicBezTo>
                <a:cubicBezTo>
                  <a:pt x="13273" y="7472"/>
                  <a:pt x="12052" y="7674"/>
                  <a:pt x="10964" y="7466"/>
                </a:cubicBezTo>
                <a:cubicBezTo>
                  <a:pt x="10899" y="7454"/>
                  <a:pt x="10851" y="7454"/>
                  <a:pt x="10790" y="7441"/>
                </a:cubicBezTo>
                <a:cubicBezTo>
                  <a:pt x="10716" y="7425"/>
                  <a:pt x="10645" y="7405"/>
                  <a:pt x="10567" y="7392"/>
                </a:cubicBezTo>
                <a:cubicBezTo>
                  <a:pt x="10472" y="7376"/>
                  <a:pt x="10366" y="7351"/>
                  <a:pt x="10269" y="7342"/>
                </a:cubicBezTo>
                <a:cubicBezTo>
                  <a:pt x="9873" y="7305"/>
                  <a:pt x="9506" y="7400"/>
                  <a:pt x="9128" y="7441"/>
                </a:cubicBezTo>
                <a:cubicBezTo>
                  <a:pt x="8803" y="7477"/>
                  <a:pt x="8448" y="7440"/>
                  <a:pt x="8136" y="7392"/>
                </a:cubicBezTo>
                <a:cubicBezTo>
                  <a:pt x="7980" y="7368"/>
                  <a:pt x="7822" y="7367"/>
                  <a:pt x="7665" y="7342"/>
                </a:cubicBezTo>
                <a:cubicBezTo>
                  <a:pt x="7610" y="7333"/>
                  <a:pt x="7471" y="7325"/>
                  <a:pt x="7417" y="7293"/>
                </a:cubicBezTo>
                <a:cubicBezTo>
                  <a:pt x="7402" y="7284"/>
                  <a:pt x="7361" y="7209"/>
                  <a:pt x="7342" y="7193"/>
                </a:cubicBezTo>
                <a:cubicBezTo>
                  <a:pt x="7294" y="7152"/>
                  <a:pt x="7267" y="7104"/>
                  <a:pt x="7243" y="7045"/>
                </a:cubicBezTo>
                <a:cubicBezTo>
                  <a:pt x="7237" y="7030"/>
                  <a:pt x="7229" y="6985"/>
                  <a:pt x="7218" y="6945"/>
                </a:cubicBezTo>
                <a:cubicBezTo>
                  <a:pt x="7201" y="6885"/>
                  <a:pt x="7198" y="6845"/>
                  <a:pt x="7193" y="6796"/>
                </a:cubicBezTo>
                <a:cubicBezTo>
                  <a:pt x="7175" y="6626"/>
                  <a:pt x="7190" y="6442"/>
                  <a:pt x="7243" y="6300"/>
                </a:cubicBezTo>
                <a:cubicBezTo>
                  <a:pt x="7263" y="6246"/>
                  <a:pt x="7327" y="6161"/>
                  <a:pt x="7342" y="6127"/>
                </a:cubicBezTo>
                <a:cubicBezTo>
                  <a:pt x="7362" y="6082"/>
                  <a:pt x="7346" y="6061"/>
                  <a:pt x="7367" y="6028"/>
                </a:cubicBezTo>
                <a:cubicBezTo>
                  <a:pt x="7395" y="5984"/>
                  <a:pt x="7432" y="5927"/>
                  <a:pt x="7466" y="5879"/>
                </a:cubicBezTo>
                <a:cubicBezTo>
                  <a:pt x="7478" y="5862"/>
                  <a:pt x="7578" y="5738"/>
                  <a:pt x="7590" y="5730"/>
                </a:cubicBezTo>
                <a:cubicBezTo>
                  <a:pt x="7619" y="5711"/>
                  <a:pt x="7658" y="5718"/>
                  <a:pt x="7689" y="5705"/>
                </a:cubicBezTo>
                <a:cubicBezTo>
                  <a:pt x="7729" y="5689"/>
                  <a:pt x="7751" y="5693"/>
                  <a:pt x="7813" y="5680"/>
                </a:cubicBezTo>
                <a:cubicBezTo>
                  <a:pt x="7845" y="5673"/>
                  <a:pt x="7881" y="5684"/>
                  <a:pt x="7913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 Black"/>
              </a:rPr>
              <a:t>Other countries have different rides if they have to go on road patrol.  Italy’s police car is the Lamborghini Gallardo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4105080" cy="2809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029200" y="3213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e highest rank is the 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olice Director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508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e S.R.B.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83628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The S.R.B.A stands for stab resistant body armou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So if someone stabs someone with the S.R.B.A, it will protect them from getting hurt or stabbe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Other countries have bulletproof vest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620640"/>
            <a:ext cx="4032000" cy="947880"/>
          </a:xfrm>
          <a:custGeom>
            <a:avLst/>
            <a:gdLst/>
            <a:ahLst/>
            <a:rect l="l" t="t" r="r" b="b"/>
            <a:pathLst>
              <a:path w="9650" h="2631">
                <a:moveTo>
                  <a:pt x="8310" y="1563"/>
                </a:moveTo>
                <a:cubicBezTo>
                  <a:pt x="8235" y="1609"/>
                  <a:pt x="8117" y="1638"/>
                  <a:pt x="8037" y="1712"/>
                </a:cubicBezTo>
                <a:cubicBezTo>
                  <a:pt x="7986" y="1759"/>
                  <a:pt x="7943" y="1807"/>
                  <a:pt x="7913" y="1860"/>
                </a:cubicBezTo>
                <a:cubicBezTo>
                  <a:pt x="7890" y="1901"/>
                  <a:pt x="7909" y="1899"/>
                  <a:pt x="7888" y="1960"/>
                </a:cubicBezTo>
                <a:cubicBezTo>
                  <a:pt x="7867" y="2019"/>
                  <a:pt x="7873" y="2071"/>
                  <a:pt x="7863" y="2133"/>
                </a:cubicBezTo>
                <a:cubicBezTo>
                  <a:pt x="7849" y="2224"/>
                  <a:pt x="7834" y="2306"/>
                  <a:pt x="7838" y="2406"/>
                </a:cubicBezTo>
                <a:cubicBezTo>
                  <a:pt x="7842" y="2509"/>
                  <a:pt x="7831" y="2595"/>
                  <a:pt x="7888" y="2679"/>
                </a:cubicBezTo>
                <a:cubicBezTo>
                  <a:pt x="7926" y="2734"/>
                  <a:pt x="7969" y="2756"/>
                  <a:pt x="8012" y="2803"/>
                </a:cubicBezTo>
                <a:cubicBezTo>
                  <a:pt x="8056" y="2850"/>
                  <a:pt x="8168" y="2904"/>
                  <a:pt x="8210" y="2927"/>
                </a:cubicBezTo>
                <a:cubicBezTo>
                  <a:pt x="8231" y="2939"/>
                  <a:pt x="8287" y="2983"/>
                  <a:pt x="8334" y="3001"/>
                </a:cubicBezTo>
                <a:cubicBezTo>
                  <a:pt x="8370" y="3015"/>
                  <a:pt x="8447" y="3042"/>
                  <a:pt x="8483" y="3051"/>
                </a:cubicBezTo>
                <a:cubicBezTo>
                  <a:pt x="8592" y="3077"/>
                  <a:pt x="8702" y="3074"/>
                  <a:pt x="8806" y="3101"/>
                </a:cubicBezTo>
                <a:cubicBezTo>
                  <a:pt x="8862" y="3116"/>
                  <a:pt x="8919" y="3131"/>
                  <a:pt x="8979" y="3150"/>
                </a:cubicBezTo>
                <a:cubicBezTo>
                  <a:pt x="9063" y="3176"/>
                  <a:pt x="9114" y="3207"/>
                  <a:pt x="9203" y="3225"/>
                </a:cubicBezTo>
                <a:cubicBezTo>
                  <a:pt x="9260" y="3237"/>
                  <a:pt x="9319" y="3237"/>
                  <a:pt x="9376" y="3249"/>
                </a:cubicBezTo>
                <a:cubicBezTo>
                  <a:pt x="9457" y="3266"/>
                  <a:pt x="9539" y="3286"/>
                  <a:pt x="9624" y="3299"/>
                </a:cubicBezTo>
                <a:cubicBezTo>
                  <a:pt x="9698" y="3310"/>
                  <a:pt x="9772" y="3311"/>
                  <a:pt x="9847" y="3324"/>
                </a:cubicBezTo>
                <a:cubicBezTo>
                  <a:pt x="9960" y="3344"/>
                  <a:pt x="10080" y="3388"/>
                  <a:pt x="10195" y="3398"/>
                </a:cubicBezTo>
                <a:cubicBezTo>
                  <a:pt x="10431" y="3419"/>
                  <a:pt x="10689" y="3429"/>
                  <a:pt x="10914" y="3448"/>
                </a:cubicBezTo>
                <a:cubicBezTo>
                  <a:pt x="11062" y="3460"/>
                  <a:pt x="11213" y="3468"/>
                  <a:pt x="11361" y="3473"/>
                </a:cubicBezTo>
                <a:cubicBezTo>
                  <a:pt x="11994" y="3494"/>
                  <a:pt x="12648" y="3406"/>
                  <a:pt x="13271" y="3522"/>
                </a:cubicBezTo>
                <a:cubicBezTo>
                  <a:pt x="13361" y="3539"/>
                  <a:pt x="13454" y="3555"/>
                  <a:pt x="13543" y="3572"/>
                </a:cubicBezTo>
                <a:cubicBezTo>
                  <a:pt x="13666" y="3596"/>
                  <a:pt x="13790" y="3627"/>
                  <a:pt x="13915" y="3646"/>
                </a:cubicBezTo>
                <a:cubicBezTo>
                  <a:pt x="14131" y="3679"/>
                  <a:pt x="14343" y="3709"/>
                  <a:pt x="14560" y="3721"/>
                </a:cubicBezTo>
                <a:cubicBezTo>
                  <a:pt x="14917" y="3741"/>
                  <a:pt x="15281" y="3730"/>
                  <a:pt x="15627" y="3671"/>
                </a:cubicBezTo>
                <a:cubicBezTo>
                  <a:pt x="15788" y="3643"/>
                  <a:pt x="15960" y="3605"/>
                  <a:pt x="16098" y="3572"/>
                </a:cubicBezTo>
                <a:cubicBezTo>
                  <a:pt x="16195" y="3549"/>
                  <a:pt x="16297" y="3543"/>
                  <a:pt x="16396" y="3522"/>
                </a:cubicBezTo>
                <a:cubicBezTo>
                  <a:pt x="16586" y="3482"/>
                  <a:pt x="16776" y="3441"/>
                  <a:pt x="16966" y="3398"/>
                </a:cubicBezTo>
                <a:cubicBezTo>
                  <a:pt x="17023" y="3385"/>
                  <a:pt x="17088" y="3363"/>
                  <a:pt x="17115" y="3349"/>
                </a:cubicBezTo>
                <a:cubicBezTo>
                  <a:pt x="17162" y="3325"/>
                  <a:pt x="17182" y="3314"/>
                  <a:pt x="17239" y="3274"/>
                </a:cubicBezTo>
                <a:cubicBezTo>
                  <a:pt x="17259" y="3259"/>
                  <a:pt x="17420" y="3154"/>
                  <a:pt x="17438" y="3125"/>
                </a:cubicBezTo>
                <a:cubicBezTo>
                  <a:pt x="17471" y="3073"/>
                  <a:pt x="17473" y="3030"/>
                  <a:pt x="17487" y="2977"/>
                </a:cubicBezTo>
                <a:cubicBezTo>
                  <a:pt x="17536" y="2784"/>
                  <a:pt x="17520" y="2412"/>
                  <a:pt x="17462" y="2232"/>
                </a:cubicBezTo>
                <a:cubicBezTo>
                  <a:pt x="17449" y="2193"/>
                  <a:pt x="17385" y="2106"/>
                  <a:pt x="17363" y="2059"/>
                </a:cubicBezTo>
                <a:cubicBezTo>
                  <a:pt x="17299" y="1923"/>
                  <a:pt x="17237" y="1697"/>
                  <a:pt x="17140" y="1588"/>
                </a:cubicBezTo>
                <a:cubicBezTo>
                  <a:pt x="17124" y="1570"/>
                  <a:pt x="17099" y="1540"/>
                  <a:pt x="17066" y="1513"/>
                </a:cubicBezTo>
                <a:cubicBezTo>
                  <a:pt x="17024" y="1479"/>
                  <a:pt x="16968" y="1467"/>
                  <a:pt x="16917" y="1439"/>
                </a:cubicBezTo>
                <a:cubicBezTo>
                  <a:pt x="16841" y="1397"/>
                  <a:pt x="16768" y="1355"/>
                  <a:pt x="16694" y="1315"/>
                </a:cubicBezTo>
                <a:cubicBezTo>
                  <a:pt x="16635" y="1283"/>
                  <a:pt x="16565" y="1242"/>
                  <a:pt x="16495" y="1215"/>
                </a:cubicBezTo>
                <a:cubicBezTo>
                  <a:pt x="16432" y="1191"/>
                  <a:pt x="16388" y="1182"/>
                  <a:pt x="16321" y="1166"/>
                </a:cubicBezTo>
                <a:cubicBezTo>
                  <a:pt x="16219" y="1141"/>
                  <a:pt x="16103" y="1131"/>
                  <a:pt x="15999" y="1116"/>
                </a:cubicBezTo>
                <a:cubicBezTo>
                  <a:pt x="15779" y="1084"/>
                  <a:pt x="15568" y="1094"/>
                  <a:pt x="15354" y="1116"/>
                </a:cubicBezTo>
                <a:cubicBezTo>
                  <a:pt x="15270" y="1125"/>
                  <a:pt x="15190" y="1131"/>
                  <a:pt x="15106" y="1141"/>
                </a:cubicBezTo>
                <a:cubicBezTo>
                  <a:pt x="14890" y="1165"/>
                  <a:pt x="14681" y="1166"/>
                  <a:pt x="14461" y="1166"/>
                </a:cubicBezTo>
                <a:cubicBezTo>
                  <a:pt x="13659" y="1166"/>
                  <a:pt x="12821" y="1112"/>
                  <a:pt x="12030" y="1191"/>
                </a:cubicBezTo>
                <a:cubicBezTo>
                  <a:pt x="11946" y="1199"/>
                  <a:pt x="11868" y="1211"/>
                  <a:pt x="11782" y="1215"/>
                </a:cubicBezTo>
                <a:cubicBezTo>
                  <a:pt x="11460" y="1229"/>
                  <a:pt x="11128" y="1202"/>
                  <a:pt x="10815" y="1191"/>
                </a:cubicBezTo>
                <a:cubicBezTo>
                  <a:pt x="10235" y="1171"/>
                  <a:pt x="9594" y="1153"/>
                  <a:pt x="9029" y="1215"/>
                </a:cubicBezTo>
                <a:cubicBezTo>
                  <a:pt x="8938" y="1225"/>
                  <a:pt x="8841" y="1210"/>
                  <a:pt x="8756" y="1240"/>
                </a:cubicBezTo>
                <a:cubicBezTo>
                  <a:pt x="8687" y="1265"/>
                  <a:pt x="8644" y="1312"/>
                  <a:pt x="8582" y="1339"/>
                </a:cubicBezTo>
                <a:cubicBezTo>
                  <a:pt x="8521" y="1366"/>
                  <a:pt x="8497" y="1373"/>
                  <a:pt x="8434" y="1414"/>
                </a:cubicBezTo>
                <a:cubicBezTo>
                  <a:pt x="8392" y="1441"/>
                  <a:pt x="8375" y="1482"/>
                  <a:pt x="8334" y="1513"/>
                </a:cubicBezTo>
                <a:cubicBezTo>
                  <a:pt x="8291" y="1545"/>
                  <a:pt x="8213" y="1589"/>
                  <a:pt x="8186" y="1612"/>
                </a:cubicBezTo>
                <a:cubicBezTo>
                  <a:pt x="8093" y="1692"/>
                  <a:pt x="8006" y="1780"/>
                  <a:pt x="7913" y="18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804000" y="4941720"/>
            <a:ext cx="2340000" cy="19162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250920" y="4943520"/>
            <a:ext cx="2376360" cy="19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e equipment for police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3640" y="3428640"/>
            <a:ext cx="6624360" cy="29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Tas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Handcuff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Pepper spra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Torc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Handgun or Glock17 (used in serious emergencie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The assault rifle (M16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Or the swiss army knife</a:t>
            </a: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6000" y="3789360"/>
            <a:ext cx="2916360" cy="2492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140360" y="2492280"/>
            <a:ext cx="1866600" cy="13906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304776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German Shephe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German Shepherds are the police dog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y use German Shepherds because they are easy to train.  That’s what the dog handlers from the police say…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3456000" cy="18446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German Shepherds are the police dog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y use German Shepherds because they are easy to train.  That’s what the dog handlers from the police say….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084720" y="4724280"/>
            <a:ext cx="305928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en should you call 111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You should call 111 in a serious emergency, but don’t call 111 when your older brother or sister steals your toys!  That would just be a waste of time for the dispatchers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                          </a:t>
            </a: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The En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                     </a:t>
            </a: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By Bernon 5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3024360" cy="2852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203640" cy="2781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6340320" y="6249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611" y="17363"/>
                </a:moveTo>
                <a:lnTo>
                  <a:pt x="17611" y="1736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40320" y="624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611" y="17338"/>
                </a:moveTo>
                <a:lnTo>
                  <a:pt x="17611" y="173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30960" y="624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87" y="17338"/>
                </a:moveTo>
                <a:lnTo>
                  <a:pt x="17587" y="173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23040" y="624204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7587" y="17338"/>
                </a:moveTo>
                <a:cubicBezTo>
                  <a:pt x="17579" y="17338"/>
                  <a:pt x="17570" y="17338"/>
                  <a:pt x="17562" y="173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13320" y="624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37" y="17338"/>
                </a:moveTo>
                <a:lnTo>
                  <a:pt x="17537" y="173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313320" y="624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37" y="17338"/>
                </a:moveTo>
                <a:lnTo>
                  <a:pt x="17537" y="173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13320" y="624204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7537" y="17338"/>
                </a:moveTo>
                <a:cubicBezTo>
                  <a:pt x="17545" y="17338"/>
                  <a:pt x="17554" y="17338"/>
                  <a:pt x="17562" y="173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23040" y="6232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62" y="17314"/>
                </a:moveTo>
                <a:lnTo>
                  <a:pt x="17562" y="1731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00720" y="62373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87" y="17289"/>
                </a:moveTo>
                <a:lnTo>
                  <a:pt x="17587" y="172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00720" y="616572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17562" y="17289"/>
                </a:moveTo>
                <a:cubicBezTo>
                  <a:pt x="17524" y="17302"/>
                  <a:pt x="17537" y="17318"/>
                  <a:pt x="17537" y="17363"/>
                </a:cubicBezTo>
                <a:cubicBezTo>
                  <a:pt x="17537" y="17376"/>
                  <a:pt x="17565" y="17427"/>
                  <a:pt x="17587" y="17438"/>
                </a:cubicBezTo>
                <a:cubicBezTo>
                  <a:pt x="17611" y="17438"/>
                  <a:pt x="17620" y="17438"/>
                  <a:pt x="17636" y="17438"/>
                </a:cubicBezTo>
                <a:cubicBezTo>
                  <a:pt x="17636" y="17412"/>
                  <a:pt x="17662" y="17364"/>
                  <a:pt x="17661" y="17363"/>
                </a:cubicBezTo>
                <a:cubicBezTo>
                  <a:pt x="17649" y="17354"/>
                  <a:pt x="17618" y="17317"/>
                  <a:pt x="17611" y="17314"/>
                </a:cubicBezTo>
                <a:cubicBezTo>
                  <a:pt x="17576" y="17297"/>
                  <a:pt x="17491" y="17310"/>
                  <a:pt x="17487" y="17338"/>
                </a:cubicBezTo>
                <a:cubicBezTo>
                  <a:pt x="17478" y="17407"/>
                  <a:pt x="17432" y="17326"/>
                  <a:pt x="17413" y="17363"/>
                </a:cubicBezTo>
                <a:cubicBezTo>
                  <a:pt x="17438" y="17396"/>
                  <a:pt x="17445" y="17424"/>
                  <a:pt x="17487" y="17438"/>
                </a:cubicBezTo>
                <a:cubicBezTo>
                  <a:pt x="17524" y="17450"/>
                  <a:pt x="17509" y="17462"/>
                  <a:pt x="17562" y="17462"/>
                </a:cubicBezTo>
                <a:cubicBezTo>
                  <a:pt x="17604" y="17462"/>
                  <a:pt x="17612" y="17456"/>
                  <a:pt x="17636" y="17438"/>
                </a:cubicBezTo>
                <a:cubicBezTo>
                  <a:pt x="17662" y="17419"/>
                  <a:pt x="17708" y="17376"/>
                  <a:pt x="17686" y="17338"/>
                </a:cubicBezTo>
                <a:cubicBezTo>
                  <a:pt x="17661" y="17294"/>
                  <a:pt x="17661" y="17289"/>
                  <a:pt x="17611" y="17289"/>
                </a:cubicBezTo>
                <a:cubicBezTo>
                  <a:pt x="17555" y="17289"/>
                  <a:pt x="17537" y="17276"/>
                  <a:pt x="17512" y="17264"/>
                </a:cubicBezTo>
                <a:cubicBezTo>
                  <a:pt x="17474" y="17245"/>
                  <a:pt x="17421" y="17265"/>
                  <a:pt x="17413" y="17289"/>
                </a:cubicBezTo>
                <a:cubicBezTo>
                  <a:pt x="17413" y="17359"/>
                  <a:pt x="17419" y="17314"/>
                  <a:pt x="17462" y="17338"/>
                </a:cubicBezTo>
                <a:cubicBezTo>
                  <a:pt x="17494" y="17356"/>
                  <a:pt x="17539" y="17334"/>
                  <a:pt x="17562" y="17363"/>
                </a:cubicBezTo>
                <a:cubicBezTo>
                  <a:pt x="17572" y="17376"/>
                  <a:pt x="17618" y="17419"/>
                  <a:pt x="17661" y="17388"/>
                </a:cubicBezTo>
                <a:cubicBezTo>
                  <a:pt x="17677" y="17376"/>
                  <a:pt x="17673" y="17324"/>
                  <a:pt x="17686" y="17314"/>
                </a:cubicBezTo>
                <a:cubicBezTo>
                  <a:pt x="17715" y="17291"/>
                  <a:pt x="17711" y="17292"/>
                  <a:pt x="17711" y="17239"/>
                </a:cubicBezTo>
                <a:cubicBezTo>
                  <a:pt x="17698" y="17201"/>
                  <a:pt x="17681" y="17214"/>
                  <a:pt x="17636" y="17214"/>
                </a:cubicBezTo>
                <a:cubicBezTo>
                  <a:pt x="17562" y="17214"/>
                  <a:pt x="17487" y="17214"/>
                  <a:pt x="17413" y="172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7680" y="6215040"/>
            <a:ext cx="63360" cy="6336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1563" y="17289"/>
                </a:moveTo>
                <a:cubicBezTo>
                  <a:pt x="1559" y="17277"/>
                  <a:pt x="1512" y="17234"/>
                  <a:pt x="1488" y="17264"/>
                </a:cubicBezTo>
                <a:cubicBezTo>
                  <a:pt x="1488" y="17272"/>
                  <a:pt x="1488" y="17281"/>
                  <a:pt x="1488" y="17289"/>
                </a:cubicBezTo>
                <a:cubicBezTo>
                  <a:pt x="1492" y="17301"/>
                  <a:pt x="1539" y="17344"/>
                  <a:pt x="1563" y="17314"/>
                </a:cubicBezTo>
                <a:cubicBezTo>
                  <a:pt x="1563" y="17306"/>
                  <a:pt x="1563" y="17297"/>
                  <a:pt x="1563" y="17289"/>
                </a:cubicBezTo>
                <a:cubicBezTo>
                  <a:pt x="1559" y="17277"/>
                  <a:pt x="1512" y="17234"/>
                  <a:pt x="1488" y="17264"/>
                </a:cubicBezTo>
                <a:cubicBezTo>
                  <a:pt x="1469" y="17288"/>
                  <a:pt x="1510" y="17336"/>
                  <a:pt x="1513" y="17338"/>
                </a:cubicBezTo>
                <a:cubicBezTo>
                  <a:pt x="1538" y="17338"/>
                  <a:pt x="1546" y="17338"/>
                  <a:pt x="1538" y="17363"/>
                </a:cubicBezTo>
                <a:cubicBezTo>
                  <a:pt x="1550" y="17359"/>
                  <a:pt x="1593" y="17313"/>
                  <a:pt x="1563" y="17289"/>
                </a:cubicBezTo>
                <a:cubicBezTo>
                  <a:pt x="1546" y="17276"/>
                  <a:pt x="1462" y="17289"/>
                  <a:pt x="1439" y="17289"/>
                </a:cubicBezTo>
                <a:cubicBezTo>
                  <a:pt x="1439" y="17343"/>
                  <a:pt x="1452" y="17364"/>
                  <a:pt x="1463" y="17388"/>
                </a:cubicBezTo>
                <a:cubicBezTo>
                  <a:pt x="1485" y="17434"/>
                  <a:pt x="1444" y="17438"/>
                  <a:pt x="1513" y="17438"/>
                </a:cubicBezTo>
                <a:cubicBezTo>
                  <a:pt x="1547" y="17438"/>
                  <a:pt x="1593" y="17451"/>
                  <a:pt x="1612" y="17413"/>
                </a:cubicBezTo>
                <a:cubicBezTo>
                  <a:pt x="1626" y="17384"/>
                  <a:pt x="1618" y="17279"/>
                  <a:pt x="1588" y="17264"/>
                </a:cubicBezTo>
                <a:cubicBezTo>
                  <a:pt x="1562" y="17251"/>
                  <a:pt x="1493" y="17264"/>
                  <a:pt x="1463" y="17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2760" y="6143760"/>
            <a:ext cx="115560" cy="142920"/>
          </a:xfrm>
          <a:custGeom>
            <a:avLst/>
            <a:gdLst/>
            <a:ahLst/>
            <a:rect l="l" t="t" r="r" b="b"/>
            <a:pathLst>
              <a:path w="324" h="397">
                <a:moveTo>
                  <a:pt x="1513" y="17289"/>
                </a:moveTo>
                <a:cubicBezTo>
                  <a:pt x="1484" y="17282"/>
                  <a:pt x="1468" y="17272"/>
                  <a:pt x="1439" y="17264"/>
                </a:cubicBezTo>
                <a:cubicBezTo>
                  <a:pt x="1439" y="17304"/>
                  <a:pt x="1421" y="17392"/>
                  <a:pt x="1463" y="17413"/>
                </a:cubicBezTo>
                <a:cubicBezTo>
                  <a:pt x="1501" y="17432"/>
                  <a:pt x="1501" y="17444"/>
                  <a:pt x="1538" y="17462"/>
                </a:cubicBezTo>
                <a:cubicBezTo>
                  <a:pt x="1559" y="17472"/>
                  <a:pt x="1613" y="17462"/>
                  <a:pt x="1637" y="17462"/>
                </a:cubicBezTo>
                <a:cubicBezTo>
                  <a:pt x="1650" y="17425"/>
                  <a:pt x="1662" y="17441"/>
                  <a:pt x="1662" y="17388"/>
                </a:cubicBezTo>
                <a:cubicBezTo>
                  <a:pt x="1662" y="17333"/>
                  <a:pt x="1669" y="17313"/>
                  <a:pt x="1637" y="17289"/>
                </a:cubicBezTo>
                <a:cubicBezTo>
                  <a:pt x="1601" y="17262"/>
                  <a:pt x="1586" y="17231"/>
                  <a:pt x="1563" y="17214"/>
                </a:cubicBezTo>
                <a:cubicBezTo>
                  <a:pt x="1540" y="17192"/>
                  <a:pt x="1535" y="17184"/>
                  <a:pt x="1513" y="17190"/>
                </a:cubicBezTo>
                <a:cubicBezTo>
                  <a:pt x="1484" y="17199"/>
                  <a:pt x="1459" y="17253"/>
                  <a:pt x="1439" y="17264"/>
                </a:cubicBezTo>
                <a:cubicBezTo>
                  <a:pt x="1406" y="17283"/>
                  <a:pt x="1414" y="17288"/>
                  <a:pt x="1414" y="17338"/>
                </a:cubicBezTo>
                <a:cubicBezTo>
                  <a:pt x="1414" y="17368"/>
                  <a:pt x="1455" y="17384"/>
                  <a:pt x="1488" y="17388"/>
                </a:cubicBezTo>
                <a:cubicBezTo>
                  <a:pt x="1529" y="17393"/>
                  <a:pt x="1507" y="17413"/>
                  <a:pt x="1563" y="17413"/>
                </a:cubicBezTo>
                <a:cubicBezTo>
                  <a:pt x="1588" y="17413"/>
                  <a:pt x="1596" y="17413"/>
                  <a:pt x="1612" y="17413"/>
                </a:cubicBezTo>
                <a:cubicBezTo>
                  <a:pt x="1650" y="17400"/>
                  <a:pt x="1637" y="17383"/>
                  <a:pt x="1637" y="17338"/>
                </a:cubicBezTo>
                <a:cubicBezTo>
                  <a:pt x="1637" y="17294"/>
                  <a:pt x="1658" y="17188"/>
                  <a:pt x="1612" y="17165"/>
                </a:cubicBezTo>
                <a:cubicBezTo>
                  <a:pt x="1583" y="17151"/>
                  <a:pt x="1521" y="17126"/>
                  <a:pt x="1488" y="17115"/>
                </a:cubicBezTo>
                <a:cubicBezTo>
                  <a:pt x="1442" y="17100"/>
                  <a:pt x="1349" y="17109"/>
                  <a:pt x="1339" y="17140"/>
                </a:cubicBezTo>
                <a:cubicBezTo>
                  <a:pt x="1339" y="17166"/>
                  <a:pt x="1346" y="17227"/>
                  <a:pt x="1364" y="17239"/>
                </a:cubicBezTo>
                <a:cubicBezTo>
                  <a:pt x="1381" y="17251"/>
                  <a:pt x="1423" y="17258"/>
                  <a:pt x="1439" y="17289"/>
                </a:cubicBezTo>
                <a:cubicBezTo>
                  <a:pt x="1453" y="17316"/>
                  <a:pt x="1469" y="17333"/>
                  <a:pt x="1513" y="17338"/>
                </a:cubicBezTo>
                <a:cubicBezTo>
                  <a:pt x="1554" y="17342"/>
                  <a:pt x="1532" y="17363"/>
                  <a:pt x="1588" y="17363"/>
                </a:cubicBezTo>
                <a:cubicBezTo>
                  <a:pt x="1596" y="17363"/>
                  <a:pt x="1604" y="17363"/>
                  <a:pt x="1612" y="17363"/>
                </a:cubicBezTo>
                <a:cubicBezTo>
                  <a:pt x="1612" y="17316"/>
                  <a:pt x="1633" y="17196"/>
                  <a:pt x="1588" y="17190"/>
                </a:cubicBezTo>
                <a:cubicBezTo>
                  <a:pt x="1546" y="17185"/>
                  <a:pt x="1504" y="17168"/>
                  <a:pt x="1488" y="17140"/>
                </a:cubicBezTo>
                <a:cubicBezTo>
                  <a:pt x="1483" y="17132"/>
                  <a:pt x="1448" y="17047"/>
                  <a:pt x="1414" y="17090"/>
                </a:cubicBezTo>
                <a:cubicBezTo>
                  <a:pt x="1414" y="17115"/>
                  <a:pt x="1414" y="17123"/>
                  <a:pt x="1389" y="17115"/>
                </a:cubicBezTo>
                <a:cubicBezTo>
                  <a:pt x="1389" y="17156"/>
                  <a:pt x="1372" y="17209"/>
                  <a:pt x="1414" y="17214"/>
                </a:cubicBezTo>
                <a:cubicBezTo>
                  <a:pt x="1465" y="17220"/>
                  <a:pt x="1498" y="17241"/>
                  <a:pt x="1538" y="17264"/>
                </a:cubicBezTo>
                <a:cubicBezTo>
                  <a:pt x="1605" y="17303"/>
                  <a:pt x="1598" y="17328"/>
                  <a:pt x="1662" y="17338"/>
                </a:cubicBezTo>
                <a:cubicBezTo>
                  <a:pt x="1662" y="17271"/>
                  <a:pt x="1654" y="17246"/>
                  <a:pt x="1637" y="17214"/>
                </a:cubicBezTo>
                <a:cubicBezTo>
                  <a:pt x="1623" y="17186"/>
                  <a:pt x="1636" y="17153"/>
                  <a:pt x="1612" y="17140"/>
                </a:cubicBezTo>
                <a:cubicBezTo>
                  <a:pt x="1590" y="17129"/>
                  <a:pt x="1544" y="17102"/>
                  <a:pt x="1538" y="17090"/>
                </a:cubicBezTo>
                <a:cubicBezTo>
                  <a:pt x="1521" y="17057"/>
                  <a:pt x="1510" y="17066"/>
                  <a:pt x="1463" y="17066"/>
                </a:cubicBezTo>
                <a:cubicBezTo>
                  <a:pt x="1392" y="17066"/>
                  <a:pt x="1444" y="17088"/>
                  <a:pt x="1389" y="17115"/>
                </a:cubicBezTo>
                <a:cubicBezTo>
                  <a:pt x="1354" y="17132"/>
                  <a:pt x="1364" y="17142"/>
                  <a:pt x="1364" y="17190"/>
                </a:cubicBezTo>
                <a:cubicBezTo>
                  <a:pt x="1364" y="17224"/>
                  <a:pt x="1351" y="17270"/>
                  <a:pt x="1389" y="17289"/>
                </a:cubicBezTo>
                <a:cubicBezTo>
                  <a:pt x="1421" y="17305"/>
                  <a:pt x="1448" y="17314"/>
                  <a:pt x="1488" y="17314"/>
                </a:cubicBezTo>
                <a:cubicBezTo>
                  <a:pt x="1521" y="17314"/>
                  <a:pt x="1555" y="17314"/>
                  <a:pt x="1588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7680" y="6180120"/>
            <a:ext cx="5911560" cy="79560"/>
          </a:xfrm>
          <a:custGeom>
            <a:avLst/>
            <a:gdLst/>
            <a:ahLst/>
            <a:rect l="l" t="t" r="r" b="b"/>
            <a:pathLst>
              <a:path w="16421" h="224">
                <a:moveTo>
                  <a:pt x="17859" y="17388"/>
                </a:moveTo>
                <a:lnTo>
                  <a:pt x="17859" y="17388"/>
                </a:lnTo>
              </a:path>
              <a:path w="16421" h="224">
                <a:moveTo>
                  <a:pt x="17785" y="17363"/>
                </a:moveTo>
                <a:lnTo>
                  <a:pt x="17785" y="17363"/>
                </a:lnTo>
              </a:path>
              <a:path w="16421" h="224">
                <a:moveTo>
                  <a:pt x="1439" y="17165"/>
                </a:moveTo>
                <a:lnTo>
                  <a:pt x="1439" y="1716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76960" y="6170760"/>
            <a:ext cx="162000" cy="107640"/>
          </a:xfrm>
          <a:custGeom>
            <a:avLst/>
            <a:gdLst/>
            <a:ahLst/>
            <a:rect l="l" t="t" r="r" b="b"/>
            <a:pathLst>
              <a:path w="447" h="299">
                <a:moveTo>
                  <a:pt x="17462" y="17140"/>
                </a:moveTo>
                <a:cubicBezTo>
                  <a:pt x="17435" y="17178"/>
                  <a:pt x="17438" y="17192"/>
                  <a:pt x="17438" y="17239"/>
                </a:cubicBezTo>
                <a:cubicBezTo>
                  <a:pt x="17438" y="17305"/>
                  <a:pt x="17446" y="17354"/>
                  <a:pt x="17462" y="17388"/>
                </a:cubicBezTo>
                <a:cubicBezTo>
                  <a:pt x="17485" y="17436"/>
                  <a:pt x="17512" y="17382"/>
                  <a:pt x="17537" y="17413"/>
                </a:cubicBezTo>
                <a:cubicBezTo>
                  <a:pt x="17560" y="17441"/>
                  <a:pt x="17559" y="17438"/>
                  <a:pt x="17611" y="17438"/>
                </a:cubicBezTo>
                <a:cubicBezTo>
                  <a:pt x="17702" y="17438"/>
                  <a:pt x="17805" y="17440"/>
                  <a:pt x="17859" y="17413"/>
                </a:cubicBezTo>
                <a:cubicBezTo>
                  <a:pt x="17894" y="17396"/>
                  <a:pt x="17884" y="17387"/>
                  <a:pt x="17884" y="17338"/>
                </a:cubicBezTo>
                <a:cubicBezTo>
                  <a:pt x="17884" y="17309"/>
                  <a:pt x="17884" y="17165"/>
                  <a:pt x="17884" y="17214"/>
                </a:cubicBezTo>
                <a:cubicBezTo>
                  <a:pt x="17884" y="17264"/>
                  <a:pt x="17884" y="17313"/>
                  <a:pt x="17884" y="17363"/>
                </a:cubicBezTo>
                <a:cubicBezTo>
                  <a:pt x="17884" y="17290"/>
                  <a:pt x="17879" y="17229"/>
                  <a:pt x="17859" y="17190"/>
                </a:cubicBezTo>
                <a:cubicBezTo>
                  <a:pt x="17859" y="17165"/>
                  <a:pt x="17859" y="17157"/>
                  <a:pt x="17835" y="17165"/>
                </a:cubicBezTo>
                <a:cubicBezTo>
                  <a:pt x="17856" y="17172"/>
                  <a:pt x="17874" y="17208"/>
                  <a:pt x="17884" y="17239"/>
                </a:cubicBezTo>
                <a:cubicBezTo>
                  <a:pt x="17899" y="17285"/>
                  <a:pt x="17884" y="17364"/>
                  <a:pt x="17884" y="17413"/>
                </a:cubicBezTo>
                <a:cubicBezTo>
                  <a:pt x="17851" y="17413"/>
                  <a:pt x="17818" y="17413"/>
                  <a:pt x="17785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1:46:29Z</dcterms:created>
  <dc:creator>5e18</dc:creator>
  <dc:description/>
  <dc:language>en-US</dc:language>
  <cp:lastModifiedBy>5e18</cp:lastModifiedBy>
  <dcterms:modified xsi:type="dcterms:W3CDTF">2011-09-08T23:18:53Z</dcterms:modified>
  <cp:revision>9</cp:revision>
  <dc:subject/>
  <dc:title>                 Police</dc:title>
</cp:coreProperties>
</file>